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A56-3F98-47F7-BE77-0724DB97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98E-920C-437C-B8D2-785A525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9AE5F-6298-4BDE-916E-60BCB26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ED881-854E-4B40-BB29-503DE316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8E0F-E738-4705-9BFC-9AF27FD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994E-74E3-4830-BDF2-E7521F3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8E79C-5A4A-4B8F-8A5D-5CB659D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5725-6C23-4A1B-BDC5-8F41CD5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2E58-DDC5-4F11-A297-B11A08A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FFE3-C11E-4781-9880-FCC9C379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AD67E-7B41-4AAF-B503-01537A0C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C41F9-E015-4092-940D-D21239E4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384-C48A-4F8C-882E-816DE1F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58D35-F0B9-4A19-B187-24279CA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90704-580E-4C90-8E3F-53EC007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51B9D-61FE-43EB-B8FF-2D959FD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B06B6-2152-461A-99C1-E768BE2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53143-2239-4840-A4A4-C7FDE46F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7A50-6475-4E8D-9B79-AB47918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B4B55-D27B-43D8-A922-648D5DB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BC3B-8EAD-4A90-88C9-EFD2F98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6F5DB-1E8C-4AD9-9275-EC2BB3C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48EE4-1F15-4E6B-B4A2-C150F288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893-C578-439E-A6BA-B188DF63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DDF8B-7671-4454-B31C-C4859C16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2A5F-32BF-480A-844B-9D050A04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CE0DC-8113-40AE-BD2A-85FD36C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F54D-7B03-444B-962B-2CBE0A4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5EED-F598-4D1A-AB9B-059420B0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6E7D9-FA7C-4DE3-89BF-6F2A50F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500DD-25E4-4DC8-93E6-5669DBB1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C3368-83D7-4694-A298-75016DF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16D4C-B1A1-4C74-ABE0-D61DB1D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4278-979A-4230-A914-A774CC9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5C2-E382-4A33-B8C7-D2B5197C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70C30-9D97-47C1-A44F-78B11E83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6502-0B47-47B5-9EBA-D20E3ED4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EE843-0FBB-49D9-A8EA-1BDA1A27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630A9-46A3-4BF7-8D61-FF34E8F9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55BD6-8E6D-4452-9D26-D8C57E4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AF16E-2A60-43B4-9A5F-615CB5B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C31AA-67F4-4397-BE60-36F377C1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4F5C-9A47-44CD-A7F6-468C962B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58B2E-8984-4C0E-905D-94C15A5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1CD30-E40B-4B62-8F32-7E68683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9869-6479-405D-AE7B-460219D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B2681-3246-40C8-8543-7BE9483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16CB1-AF9C-462A-8859-1DF36C8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6F43B-E906-4BA7-8FD5-774B03C9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C41BD-9EBF-4BC7-AA9C-51EB7C35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32D6-E4B8-4895-ADDD-D0647E9C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9F3-C037-4B63-8FE3-42C341F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2E67-3A94-4C8B-AC1D-9195EC6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E5FE-78DE-4060-ADD8-B650DEB8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2425-683B-4575-8CE2-FA61FFD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F3D-BE4E-40C5-B943-929BF5B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B3E-6274-4863-8668-E9AFAF0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06F0-7543-4030-AA3C-F2501AE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39D0-6C99-4C01-834C-B741732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BF7-C7CC-4ACA-8EB8-852FBEA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DA1-CCD6-4498-841A-A2CBADDD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5A9E-8C90-4FA2-9BCA-469AFA6F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DB23-1A8C-4FF4-A31A-5690B598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F72D-A4A6-4111-9814-5FE79A35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868C-8B10-42AA-8FB0-9F92511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8813-FE5B-4747-A831-8AF4A2B3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A6D2-BA63-40E1-B3E9-72368A1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F28-4261-434D-A5F1-CEBF06E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4B6F4-0096-4CEA-A705-1031F276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C3FF-9B39-49F2-877D-AD29490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1287-DA3B-4526-9101-A6D5D46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0EF3-3CBA-42EB-BA07-9B1AD0E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7CA1-88E3-4EF9-9AD8-8BDA8C9C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995C-595D-4254-9C7A-6289A5EB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B503-A4CA-4CD2-AE8E-529E478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BE87-BDCA-4860-B568-012D7FEF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BD65-21F6-47EC-984C-B568FC48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B7F3-3118-43C2-8286-2E2F23D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7D5-300D-4E52-A102-C8C82CD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5B92-7D3B-4821-863E-DEF6B7C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4CD4-62F2-4BD7-968C-8EE90B4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C050-D214-4B58-A752-34F01C7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755E-0E62-41B9-9753-0F5152E2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3D52-BFE3-454E-9F2A-B038664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D960-CE2E-4021-B064-773EEF7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C388-4ABD-4326-85B9-A6363AF3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EB18-9937-4404-8CA6-B4C48B12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E354-92E4-44F0-8283-9E62A517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176E4-5097-40A8-8439-BCD1DA58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C7B-A7FC-44BF-88A7-95EDFD5B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EF33-C458-4B97-8F96-B773144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C90F-7A6C-421B-AD42-C13B35AD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9482-EB9E-4DD1-93EF-BEBB309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2204-C364-4EE7-9408-F0B6DD0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FE05-C2A9-4C9A-8A2B-B924EC8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0D46-316F-431F-983D-F34722B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A71E-1E82-4CAF-BF2C-F4F5400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1A3D-1041-48E7-8847-6D41C84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0D6AB-AC10-455C-9512-CA87888E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0334-B45B-4A1E-956D-B8B01A0C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B87-B583-4F4C-94EC-F63521C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E688B-11C5-4B2C-8DA8-FD388424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4ECF-22F4-425A-8827-DBF2D16F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0898-2AC1-43F9-98D6-3324537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F445-3BA5-4ACF-90A0-4B26D6C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18D06-09E2-4392-A94F-24EA0513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DA35-55E8-40D9-B670-1FEBF00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609B-EB54-4B31-81CF-4C5E282F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A2126-E9C4-4C2B-94FF-BA18CDB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DDC5-119F-409F-9DCD-7FAE9B2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3FAAF-46B6-4E49-AB1E-E8D0251E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99F-3E45-4A2C-81E7-E87B646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2A96-E1D6-48EB-A293-CC3CB29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3EC2-5A8C-472E-9984-9DEE344F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16F17-1886-4D0E-936C-FA4DBB40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C1DC-07C0-400B-9CFE-F958BBB5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27EE-D71D-4211-A99A-828652B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1BFA-CE52-4FDF-B1A6-DB1000AF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463C-745B-4BD0-9E33-B19C9DED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3791-6196-4C59-AA53-60BF545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97C8F-8E7B-4F9D-BE0C-E79B206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6D8B3-14EF-4DA4-9B18-839866A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EF0-6EFB-446F-9851-1528B00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8F79-136D-4859-817B-6F9E481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DEC0-405F-4866-A96F-C50F9BCE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37C1C-7F2C-4022-B04A-AA69ABA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6E27-3AFB-45E1-B196-5B0FB9F3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BDAE-7FD6-48A8-A67F-3A06B0DC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7DEB-E90D-4D83-BCDB-24CA107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8791C-D6BC-4B63-BB67-C642025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5D0C9-680F-46D5-A71C-6A2C3E8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DFF6-1AA2-42C6-B016-D49E2B4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BC3C4-B076-48CB-B2E9-8513056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7F3-010E-4916-8CEF-D6EE874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18EE-A398-48F2-B5BC-C371855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80392-920C-481F-8930-7C09450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C6E0-B2BD-44F3-8D57-36BE1B6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9010F-4D73-46F7-A030-A1CD27A7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A52F-4225-4903-A758-C077709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0C9A-2E81-45AB-B8BB-F9B56B5A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35AB-B934-4EC6-AED0-982628B2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0EE1F-5EA6-4265-A635-F1407FBF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769A-185D-494D-ABB2-9AB8A6B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66BEE-8BC9-47BB-AE95-C04E1CF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258E-D2A6-4F52-B527-9CA921F92F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4CC-509D-44B6-A76A-D49C1D1EC75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253-3A0C-46DB-9F50-C0D3DE6F63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9F2D-5622-4130-868D-AC10EF79DC3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ECB-B689-4A0C-93D4-E053EBA31F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CB4-7F08-4799-B3FF-8F9886DBB1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1BA-376E-44AC-A13D-E863161C20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55AD-FA64-4F7A-BFC2-B7B7BC42048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942-AFB2-47E9-8CE9-9E35BBFA5A6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1A02-8ADE-4745-BCC9-00B08F99ADD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D9A7-CF91-4B0E-8EBE-CC377665C1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7F5D-E955-4244-8BD4-EC07BEF5EAB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" descr=""/>
          <p:cNvPicPr/>
          <p:nvPr/>
        </p:nvPicPr>
        <p:blipFill>
          <a:blip r:embed="rId1"/>
          <a:stretch/>
        </p:blipFill>
        <p:spPr>
          <a:xfrm>
            <a:off x="1287360" y="2263680"/>
            <a:ext cx="6496200" cy="39085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150920" y="1101600"/>
            <a:ext cx="6769080" cy="10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7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难忘的泼水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3"/>
          <p:cNvSpPr/>
          <p:nvPr/>
        </p:nvSpPr>
        <p:spPr>
          <a:xfrm>
            <a:off x="900000" y="158760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火红火红的凤凰花开了，傣族人民一年一度的泼水节又到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图片 4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2411280" y="3319560"/>
            <a:ext cx="4537080" cy="29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3"/>
          <p:cNvSpPr/>
          <p:nvPr/>
        </p:nvSpPr>
        <p:spPr>
          <a:xfrm>
            <a:off x="468360" y="1413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默读课文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、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，把自己读懂的地方和学习伙伴交流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今年的泼水节有什么特别的地方？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傣族人民是怎样欢迎周总理的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cc"/>
                </a:solidFill>
                <a:latin typeface="华文彩云"/>
                <a:ea typeface="华文彩云"/>
              </a:rPr>
              <a:t>阅读提示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414520" cy="2949480"/>
          </a:xfrm>
          <a:prstGeom prst="rect">
            <a:avLst/>
          </a:prstGeom>
          <a:ln w="0">
            <a:noFill/>
          </a:ln>
        </p:spPr>
      </p:pic>
      <p:sp>
        <p:nvSpPr>
          <p:cNvPr id="620" name="矩形 3"/>
          <p:cNvSpPr/>
          <p:nvPr/>
        </p:nvSpPr>
        <p:spPr>
          <a:xfrm>
            <a:off x="2195640" y="1700280"/>
            <a:ext cx="619272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默读课文第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、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5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自然段，画出自己认为写得美的语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小组合作，互相交流读书的收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华文彩云"/>
                <a:ea typeface="华文彩云"/>
              </a:rPr>
              <a:t>阅读提示三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2"/>
          <p:cNvSpPr/>
          <p:nvPr/>
        </p:nvSpPr>
        <p:spPr>
          <a:xfrm>
            <a:off x="395280" y="155736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周总理身穿对襟白褂，咖啡色长裤，头上包着一条水红色头巾，笑容满面地来到人群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3" name="图片 5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4681440" y="1989000"/>
            <a:ext cx="444492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2"/>
          <p:cNvSpPr/>
          <p:nvPr/>
        </p:nvSpPr>
        <p:spPr>
          <a:xfrm>
            <a:off x="539640" y="1341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接过一只象脚鼓，敲着欢乐的鼓点，踩着凤凰花铺成的“地毯”，同傣族人民一起跳舞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5" name="图片 5" descr=""/>
          <p:cNvPicPr/>
          <p:nvPr/>
        </p:nvPicPr>
        <p:blipFill>
          <a:blip r:embed="rId1"/>
          <a:srcRect l="4279" t="0" r="4436" b="11512"/>
          <a:stretch/>
        </p:blipFill>
        <p:spPr>
          <a:xfrm>
            <a:off x="4861080" y="2055960"/>
            <a:ext cx="3987720" cy="39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2"/>
          <p:cNvSpPr/>
          <p:nvPr/>
        </p:nvSpPr>
        <p:spPr>
          <a:xfrm>
            <a:off x="755640" y="1303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开始泼水了。周总理一手端着盛满清水的银碗，一手拿着柏树枝蘸了水，向人们泼洒，为人们祝福。傣族人民一边欢呼，一边向周总理泼水，祝福他健康长寿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7" name="图片 3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43088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1620720" y="12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华文彩云"/>
                <a:ea typeface="华文彩云"/>
              </a:rPr>
              <a:t>拓展提升作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755280" y="2400480"/>
            <a:ext cx="77770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查找、搜集周总理的图片、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用学习伙伴的话，引导学生了解我国的民族节日和民间习俗，开个小小介绍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31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56536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5"/>
          <p:cNvSpPr/>
          <p:nvPr/>
        </p:nvSpPr>
        <p:spPr>
          <a:xfrm>
            <a:off x="6028560" y="33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初读提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684360" y="1125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5"/>
          <p:cNvSpPr/>
          <p:nvPr/>
        </p:nvSpPr>
        <p:spPr>
          <a:xfrm>
            <a:off x="971640" y="1197000"/>
            <a:ext cx="6750000" cy="72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w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ànɡ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pō        dù       l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ónɡ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忘     泼      度      龙   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ào   chuān   xi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ànɡ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l</a:t>
            </a:r>
            <a:r>
              <a:rPr b="0" i="1" lang="en-US" sz="48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ìnɡ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炮    穿      向      令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115640" y="1773360"/>
            <a:ext cx="7272360" cy="360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敲鼓 驶过 笑容 踩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铺上 盛满 银碗 祝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楷体"/>
                <a:ea typeface="楷体"/>
              </a:rPr>
              <a:t>健康 长寿 象脚鼓 凤凰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课文讲了件什么事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85640" y="2565000"/>
            <a:ext cx="824544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本文讲了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一起过</a:t>
            </a:r>
            <a:r>
              <a:rPr b="0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________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7" descr="t016776e8f4052c6342.gif"/>
          <p:cNvPicPr/>
          <p:nvPr/>
        </p:nvPicPr>
        <p:blipFill>
          <a:blip r:embed="rId1"/>
          <a:stretch/>
        </p:blipFill>
        <p:spPr>
          <a:xfrm>
            <a:off x="511200" y="378936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516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7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18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9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0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1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忘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9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0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1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0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泼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2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5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2" name="Text Box 40"/>
          <p:cNvSpPr/>
          <p:nvPr/>
        </p:nvSpPr>
        <p:spPr>
          <a:xfrm>
            <a:off x="3916440" y="1749600"/>
            <a:ext cx="151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度 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3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4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5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4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龙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5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66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7075440" y="174456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炮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7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78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8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穿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0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0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向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1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2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3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5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2" name="Text Box 40"/>
          <p:cNvSpPr/>
          <p:nvPr/>
        </p:nvSpPr>
        <p:spPr>
          <a:xfrm>
            <a:off x="5495760" y="3649680"/>
            <a:ext cx="1513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令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6"/>
          <p:cNvSpPr/>
          <p:nvPr/>
        </p:nvSpPr>
        <p:spPr>
          <a:xfrm>
            <a:off x="82440" y="1854360"/>
            <a:ext cx="8323200" cy="277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敲鼓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驶过  笑容  踩着  铺上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盛满  银碗  祝福  健康  长寿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1:25:31Z</dcterms:modified>
  <cp:revision>4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